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522B-6586-449D-B022-9FD20F8F7B6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c2cf4"/>
                </a:solidFill>
                <a:latin typeface="Calibri"/>
              </a:rPr>
              <a:t>Соединения проводников в электрической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a0aba"/>
                </a:solidFill>
                <a:latin typeface="Calibri"/>
              </a:rPr>
              <a:t>Презентация учителя физики МОУ «СОШ №6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FD9-C5ED-4577-8559-EC3FE486D0D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79d3b"/>
                </a:solidFill>
                <a:latin typeface="Calibri"/>
              </a:rPr>
              <a:t>Проводники в цепи можно соединять последовательно</a:t>
            </a:r>
            <a:r>
              <a:rPr b="0" i="1" lang="ru-RU" sz="1400" spc="-1" strike="noStrike">
                <a:solidFill>
                  <a:srgbClr val="279d3b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лементы цепи соединяются один за други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5431-CA68-49A4-849F-4306EC0E105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c2cf4"/>
                </a:solidFill>
                <a:latin typeface="Calibri"/>
              </a:rPr>
              <a:t>При последовательном соединении проводник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Сила то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любой 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и неизмен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яж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напряжений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стках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противл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сопротивле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ов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2F66-F7C0-4D0C-8BA9-46F31E8C7DE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8c515"/>
                </a:solidFill>
                <a:latin typeface="Calibri"/>
              </a:rPr>
              <a:t>Пример решения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следовательно соединённых прово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м 6 и 4 Ом включены в сеть с напряжением 20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4F1E-85F0-4312-B198-962A6E58BB2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b8c515"/>
                </a:solidFill>
                <a:latin typeface="Calibri"/>
              </a:rPr>
              <a:t>Задача для самостоятельного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=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4309-6680-4445-BE22-87014918D98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716-5426-4540-8322-9DD6A5B8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403-AA70-4DFC-B8D4-83C4179E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DE8-7373-44E2-9A92-467A6DD3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ED1-C8C4-49F4-B80C-6FBCFCA4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6112-DDE8-4351-9A3C-09FC0D5F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8D1C-ECA5-456F-8BE7-0D333595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0091-B7EF-4666-BF28-19A3128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21E8-90BB-43E4-BAEE-8D97C283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6CA4-B7C8-492C-8486-631DA602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5A0C-CA5E-4F8A-8E1C-DEBDEB9C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B5F1-15A8-4835-928F-4D033D04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3B3-3A69-4314-8EAB-94693E29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C573-CE8C-424C-B2B9-D150D1D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D2AB-28DB-4546-AAEC-0A3D252A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95DC-46C3-40FC-88CA-8E4A6EB7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EFFC-86CC-4093-B0AB-4F33380C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E615-25A6-4AAC-B714-2A9B4DC5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AA6-0398-49D1-9CC5-C1241069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74A-08CC-4594-91F1-339598CC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8AE-59C9-4C71-B6A7-5FD9BEB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70B-2135-47EF-ADFD-2920B808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633-ACF9-42D6-950D-078EF7A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162-4E40-482B-BA38-6BF2053E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4F9-B945-49EF-9A47-C3AB768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0F84-47BB-4C19-80AF-AC9205E5358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8920" y="63000"/>
              <a:ext cx="3630960" cy="6141960"/>
              <a:chOff x="5398920" y="63000"/>
              <a:chExt cx="3630960" cy="61419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812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812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9164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9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7520"/>
                <a:ext cx="16308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9080" y="12466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200" y="294336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6120"/>
              <a:ext cx="893160" cy="825840"/>
              <a:chOff x="5643360" y="276120"/>
              <a:chExt cx="89316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70760"/>
                <a:ext cx="17928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200" y="4510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080" y="375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240"/>
              <a:ext cx="1059480" cy="831240"/>
              <a:chOff x="968760" y="5250240"/>
              <a:chExt cx="105948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440" y="5514840"/>
                <a:ext cx="250920" cy="299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26160"/>
                <a:ext cx="429840" cy="24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9F12-2DC2-432D-9E6B-9257DCB9643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f4"/>
                </a:solidFill>
                <a:latin typeface="Verdana"/>
              </a:rPr>
              <a:t>Соединения проводников в электрической цеп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29718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a0aba"/>
                </a:solidFill>
                <a:latin typeface="Verdana"/>
              </a:rPr>
              <a:t>Презентация учителя физики МОУ «СОШ №6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267080" y="45720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Симонова Артур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Михайлович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79d3b"/>
                </a:solidFill>
                <a:latin typeface="Verdana"/>
              </a:rPr>
              <a:t>Проводники в цепи можно соединять последовательно</a:t>
            </a:r>
            <a:r>
              <a:rPr b="0" i="1" lang="ru-RU" sz="3200" spc="-1" strike="noStrike">
                <a:solidFill>
                  <a:srgbClr val="279d3b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Элементы цепи соединяются один за други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3276720" cy="1314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24996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70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307720" y="16765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4000" y="3505320"/>
            <a:ext cx="75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2cf4"/>
                </a:solidFill>
                <a:latin typeface="Arial"/>
              </a:rPr>
              <a:t>Проводники можно соединить параллель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676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62480" y="426708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9e13"/>
                </a:solidFill>
                <a:latin typeface="Arial"/>
              </a:rPr>
              <a:t>Электрическая цепь при этом разветвляе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7130880" y="4267080"/>
            <a:ext cx="1708200" cy="2171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6631200" y="44197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631200" y="502920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6631200" y="5791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c2cf4"/>
                </a:solidFill>
                <a:latin typeface="Verdana"/>
              </a:rPr>
              <a:t>При последовательном соединении проводников: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 любой точк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неизменна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напряжений на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участках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сопротивлени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элементов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793920" y="106668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67480" y="175248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2485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567480" y="2362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80880" y="4114800"/>
            <a:ext cx="3962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а сумм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ил токов в каждой ветви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о всех ветвя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одинаково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определяетс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по формуле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837440" y="342900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9d3b"/>
                </a:solidFill>
                <a:latin typeface="Verdana"/>
              </a:rPr>
              <a:t>При параллельном соединении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6487560" y="4114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6337800" y="4419720"/>
            <a:ext cx="105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095880" y="4800600"/>
            <a:ext cx="165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/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59436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или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R=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2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0400" y="102960"/>
            <a:ext cx="59529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Пример решения 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ва последовательно соединённых проводни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противлением 6 и 4 Ом включены в сеть с напряжением 20 В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821520" y="2398680"/>
            <a:ext cx="16682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ан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6 Ом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4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20 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666880" y="2438280"/>
            <a:ext cx="48006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Из закона Ома определим силу тока в цепи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20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10 Ом=2А,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где сопротивлени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6 Ом + 4 Ом = 10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Сила тока в последовательно соединённых проводниках одинакова, поэтом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=2A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Напряжение найдём из закона Ом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 А*6 Ом = 12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А*4 Ом = 8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 ,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10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1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,  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8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180720" cy="25336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6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Задача для самостоятельного реш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750680"/>
            <a:ext cx="213372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0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5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=12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--------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33720" y="838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04920" y="838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ва проводника сопротивлением 10 и 15 Ом соединены параллельно и подключены к сети напряжением 12 В. Определите общее сопротивление проводников, общую силу тока. А также силу тока в каждом проводник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126600" y="18288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590920" y="2209680"/>
            <a:ext cx="52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. Найдём общее сопротивление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742840" y="2895480"/>
            <a:ext cx="58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0 Ом*15 Ом/(10 Ом+15 Ом)=6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666880" y="32767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. Определим общую силу тока в цепи, используя закон Ом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1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6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2743200" y="41148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3. Определим силу тока в каждом проводнике по  закону Ома, учитывая, что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0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 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5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195000" y="5638680"/>
            <a:ext cx="46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6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161640" cy="22482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3:0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